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40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png" ContentType="image/png"/>
  <Override PartName="/ppt/media/image35.png" ContentType="image/png"/>
  <Override PartName="/ppt/media/image3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B365-3BE7-4AC6-8F63-F296EBD4E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159-2B10-4180-A136-C653D5A685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82DE-A798-410C-AD09-78692F0E1F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F28-4B21-447A-A666-8EAB780ADE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2D99-4589-469D-A659-52148A4827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B1C4-9D02-46B0-8E93-56BB4ADAAF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6BD-A27A-4EA1-95B3-5A171899AA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88620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A74-732B-4AA6-B8EB-CBD4270D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BF9-57D1-4E54-88B0-F41D6BC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36D-74AD-4FD4-8391-ED213EFF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166-763A-49DD-9FFD-74F0D651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6B9A-2E6C-4D4C-AB13-DC317F09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617E-4674-441C-95C4-2F67FF9B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32D9-1445-4A1B-A0CE-945AAF3B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CD2C-3281-4490-90D7-FBE603CC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7E23-462F-4BF2-8EBA-4F8AABED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2CA3-E528-4B2A-82F8-517934D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2B1B-49E8-454C-9F5D-795A080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DA0-88DE-4755-9738-2A0EC8AC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8C96-E060-4F5E-B756-119FC97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E337-012C-48BE-A684-523946FA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B57F-9C2C-4926-8F6B-3EAE413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187-2C25-44A9-9EFB-D530C658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BF97-38AE-4C41-AA97-5A631870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AF5-3021-42DC-861A-580EDD9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8FE-7310-42F8-A810-BC0A5D92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DB0-1EA5-4D01-A0A8-81D2CD2A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20E-9E98-490F-85CE-81B6C2F0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E1A-70F7-4DCC-BFEE-2F83F37C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444-C06A-4D7F-99A0-C58FC2B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B25-6BD8-42C1-9DE1-D0D19FA0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3B4-1F62-4BA2-BD6D-95B8D67030E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11C5-1671-4061-819E-5426F00C922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353880" y="378000"/>
            <a:ext cx="8320320" cy="3376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160" y="4343400"/>
            <a:ext cx="7854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  <a:ea typeface="Arial"/>
              </a:rPr>
              <a:t>New Castle Jr./Sr. High School</a:t>
            </a:r>
            <a:endParaRPr b="0" lang="en-US" sz="35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anuary 11, 2012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7:00 p.m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ilure to sign FAFSA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orrect Social Security Numb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vorced/remarried parental in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ome earned by parents/steppar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taxed Inc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.S. Income Taxes Pa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usehold Si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Household members in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l Estate and Investment Net Wo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04560" y="10663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PS notifies student of FAFSA processing results b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ail notification containing a direct link to student’s online SAR if student’s email was provided on paper or electronic applica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ent with PIN may view SAR online 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ww.fafsa.ed.gov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view results for accuracy; update any “estimated” info with “actual” once availa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66320" cy="115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s aid eligibility using federal formu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ckages aid depending on availability of fun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s award notification including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ward amount for each program for which the student is eligi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bursement methods and time fra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rms and conditions of each awa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Rectangle 4" descr=""/>
          <p:cNvPicPr/>
          <p:nvPr/>
        </p:nvPicPr>
        <p:blipFill>
          <a:blip r:embed="rId2"/>
          <a:stretch/>
        </p:blipFill>
        <p:spPr>
          <a:xfrm>
            <a:off x="378000" y="60480"/>
            <a:ext cx="8467560" cy="1025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052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uition and fe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oom and board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Books, supplies, transportation, and miscellaneous personal expenses, including documented costs for a personal comput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Loan fe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tudy abroad cos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Dependent care expens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Disability-related expens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78280" indent="-278280">
              <a:lnSpc>
                <a:spcPct val="85000"/>
              </a:lnSpc>
              <a:spcBef>
                <a:spcPts val="108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ooperative education program cos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mount the family is expected to contribute toward education costs for the year based on the information reported on the FAFSA.  Takes into considera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 year (2011) income (student and pa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ets (student and paren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usehold Siz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umber of children in household in colle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axed inco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Rectangle 4" descr=""/>
          <p:cNvPicPr/>
          <p:nvPr/>
        </p:nvPicPr>
        <p:blipFill>
          <a:blip r:embed="rId2"/>
          <a:stretch/>
        </p:blipFill>
        <p:spPr>
          <a:xfrm>
            <a:off x="378000" y="60480"/>
            <a:ext cx="8467560" cy="1025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782316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institutions are required to have a net price calculator on their website by October 2011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 Price” is what the student actually pays to attend, after subtracting discounts and financial ai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Rectangle 4" descr=""/>
          <p:cNvPicPr/>
          <p:nvPr/>
        </p:nvPicPr>
        <p:blipFill>
          <a:blip r:embed="rId2"/>
          <a:stretch/>
        </p:blipFill>
        <p:spPr>
          <a:xfrm>
            <a:off x="530280" y="60480"/>
            <a:ext cx="8235720" cy="102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16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warded to eligible undergraduates pursuing first baccalaureate degree and certain students enrolled in post-baccalaureate teacher certification or licensing progra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ab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ual award amount based on EFC and enrollment stat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0000"/>
              </a:lnSpc>
              <a:spcBef>
                <a:spcPts val="1925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ximum award for 2010-11 = $5,55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Rectangle 4" descr=""/>
          <p:cNvPicPr/>
          <p:nvPr/>
        </p:nvPicPr>
        <p:blipFill>
          <a:blip r:embed="rId2"/>
          <a:stretch/>
        </p:blipFill>
        <p:spPr>
          <a:xfrm>
            <a:off x="530280" y="1260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53316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graduates pursuing first baccalaureate or professional degre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warded first to students with “exceptional financial need” (i.e., students with lowest EFCs at that school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ority to Federal Pell Grant recipi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10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nual award amount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100 minim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4,000 maxim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Rectangle 4" descr=""/>
          <p:cNvPicPr/>
          <p:nvPr/>
        </p:nvPicPr>
        <p:blipFill>
          <a:blip r:embed="rId2"/>
          <a:stretch/>
        </p:blipFill>
        <p:spPr>
          <a:xfrm>
            <a:off x="530280" y="-171360"/>
            <a:ext cx="8156520" cy="143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 Undergraduate, graduate, and professional stu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mployment may be on or off camp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gible employer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chool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ederal, state, or local public agenci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4960" indent="-28260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ertain private nonprofit and for-profit organization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s must use portion of FWS funds for community service employment activit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at is financial aid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re does it come from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o is eligibl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w do I apply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8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at aid is availabl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2"/>
          <a:stretch/>
        </p:blipFill>
        <p:spPr>
          <a:xfrm>
            <a:off x="378000" y="79200"/>
            <a:ext cx="8467560" cy="878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ligible student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ndergraduate, graduate, and professional stud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iority to students who show “exceptional need,” as defined by schoo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an amount varies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312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ximum annual loan amount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$4,000—undergraduate student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793800" indent="-336600">
              <a:lnSpc>
                <a:spcPct val="90000"/>
              </a:lnSpc>
              <a:spcBef>
                <a:spcPts val="1137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$6,000—graduate and professional students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Rectangle 4" descr=""/>
          <p:cNvPicPr/>
          <p:nvPr/>
        </p:nvPicPr>
        <p:blipFill>
          <a:blip r:embed="rId2"/>
          <a:stretch/>
        </p:blipFill>
        <p:spPr>
          <a:xfrm>
            <a:off x="530280" y="60480"/>
            <a:ext cx="8235720" cy="102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615600" y="1447920"/>
            <a:ext cx="5251320" cy="410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87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est rate: 5%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9-month grace perio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payment period may be up to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10 year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281160" indent="-281160">
              <a:lnSpc>
                <a:spcPct val="90000"/>
              </a:lnSpc>
              <a:spcBef>
                <a:spcPts val="22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erment and cancellation provisions availabl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0" name="Picture 6" descr="PH01754J"/>
          <p:cNvPicPr/>
          <p:nvPr/>
        </p:nvPicPr>
        <p:blipFill>
          <a:blip r:embed="rId3"/>
          <a:stretch/>
        </p:blipFill>
        <p:spPr>
          <a:xfrm>
            <a:off x="6400800" y="1676520"/>
            <a:ext cx="2219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bsidized Loans: Must demonstrate “need”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overnment pays interest while in schoo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subsidized Loans: Not based on “need”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est accrues quarterly/option to pay   interest while in school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rincipal and interest of loan begin repayment 6 months after student graduates or cease enrollment at ½ time statu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shman          $3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phomore       $4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nior/Senior   $5500.0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ditional $2000.00 unsubsidized loan for each grad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ent loan program for parents of dependent undergraduate stud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nual loan limit: COA minus other a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est Rate: 7.9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an fe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payment begins once loan is fully disbur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bearance” option available to postpone repayment while student is in schoo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itional unsubsidized loan eligibility for dependent students whose parents are unable to borrow PLU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2"/>
          <a:stretch/>
        </p:blipFill>
        <p:spPr>
          <a:xfrm>
            <a:off x="438120" y="103320"/>
            <a:ext cx="8504280" cy="1439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 State Grant Dead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y 1,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rst time and Renewal applicants that plan to enroll in a degree program or a college transferable program at a community college or other college/university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ugust 1,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irst time applicants that plan to enroll in a community college; business, trade, or technical school; or a 2 year program that is not transferable to another institution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 State Gra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ull-time, in PA………up to $434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t time, in PA………up to $217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0680" indent="-276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t of state…… up to $600 in CT, DE, MA, ME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H, RI, VT, WV, and D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l other states…..up to $400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NJ, NY, and MD = 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13800" indent="-178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mount determined by cost of schoo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te Work-Study-job related to majo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ducational Assistance Grant (EAP) – National Guar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hafee Education and Training Gran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Blind and Deaf Beneficiary Gran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ostsecondary Educational Gratuity Program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Partnerships for Access to Higher Education (PATH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tails, see the PA Guide to Student Aid, or visit www.pheaa.org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quire FAFSA comple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 require additional app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bursements/payments vary throughout  the seme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 be reported on the FAFSA; the FAFSA creates a “baseline” EF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mily must send explanation of circumstances to financial aid office at each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llege will review special circumsta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require additional document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cisions are final and cannot be appealed to U.S. Department of Edu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Gran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cholarship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oan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mployment Opportunit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Veterans Benefi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Party Agenci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8" descr="C:\Documents and Settings\sms\Local Settings\Temporary Internet Files\Content.IE5\BFN5BNWF\MCj00787110000[1].wmf"/>
          <p:cNvPicPr/>
          <p:nvPr/>
        </p:nvPicPr>
        <p:blipFill>
          <a:blip r:embed="rId3"/>
          <a:stretch/>
        </p:blipFill>
        <p:spPr>
          <a:xfrm>
            <a:off x="6705720" y="144792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btain and review admissions and financial aid websites and materials for each school to which you are apply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et all application deadlin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lete FAFSA and other application materials, such as College Scholarship Service’s PROFILE application, if required by school or state agenc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mit all requested follow-up docu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estigate other sources of fu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fafsa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pin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studentloans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fastweb.co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youcandealwithit.co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ww.educationplanner.or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3" descr=""/>
          <p:cNvPicPr/>
          <p:nvPr/>
        </p:nvPicPr>
        <p:blipFill>
          <a:blip r:embed="rId2"/>
          <a:stretch/>
        </p:blipFill>
        <p:spPr>
          <a:xfrm>
            <a:off x="682560" y="530280"/>
            <a:ext cx="7785000" cy="166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Documents and Settings\jld1\Local Settings\Temporary Internet Files\Content.IE5\F5Z1GIIE\MCj03356810000[1].wmf"/>
          <p:cNvPicPr/>
          <p:nvPr/>
        </p:nvPicPr>
        <p:blipFill>
          <a:blip r:embed="rId3"/>
          <a:stretch/>
        </p:blipFill>
        <p:spPr>
          <a:xfrm>
            <a:off x="609480" y="3048120"/>
            <a:ext cx="4488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at is It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holarshi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nt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mployment Opport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hat Are the Sources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der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Institu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vate Organizations and Agenc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igh school diploma or equivalen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enrolled or accepted for enrollment in eligible program of stud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pursuing degree, certificate, or other recognized credentia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U.S. citizen or eligible noncitize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ust be registered with Selective Service (if male and required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not have eligibility if convicted of a drug-related offen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not have eligibility if convicted of a sexual offen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2"/>
          <a:stretch/>
        </p:blipFill>
        <p:spPr>
          <a:xfrm>
            <a:off x="450720" y="158760"/>
            <a:ext cx="8242560" cy="127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Submit FAFSA prior to school’s deadlin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Most aid awarded on “first come, first served” basi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o ensure maximum consideration for federal, state, and institutional aid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check information from each school to determine: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Required application materials for each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AFSA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ways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.  However, scholarship forms? institutional applications? CSS Profile Form?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Application deadlin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624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C:\Documents and Settings\jld1\Local Settings\Temporary Internet Files\Content.IE5\VAYRRTPW\MCj02955550000[1].wmf"/>
          <p:cNvPicPr/>
          <p:nvPr/>
        </p:nvPicPr>
        <p:blipFill>
          <a:blip r:embed="rId3"/>
          <a:stretch/>
        </p:blipFill>
        <p:spPr>
          <a:xfrm>
            <a:off x="7315200" y="4998960"/>
            <a:ext cx="18288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2"/>
          <a:stretch/>
        </p:blipFill>
        <p:spPr>
          <a:xfrm>
            <a:off x="19080" y="646200"/>
            <a:ext cx="3400560" cy="1420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rcRect l="0" t="15155" r="24076" b="17266"/>
          <a:stretch/>
        </p:blipFill>
        <p:spPr>
          <a:xfrm>
            <a:off x="3352680" y="0"/>
            <a:ext cx="556272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228600" y="1676520"/>
            <a:ext cx="327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bsit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ww.pin.ed.gov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ot required, but speeds process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8600" y="54849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ay be used by students and parents throughout aid process, including subsequent school year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2"/>
          <a:stretch/>
        </p:blipFill>
        <p:spPr>
          <a:xfrm>
            <a:off x="682560" y="-19080"/>
            <a:ext cx="7785000" cy="115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rcRect l="42333" t="32813" r="13751" b="35157"/>
          <a:stretch/>
        </p:blipFill>
        <p:spPr>
          <a:xfrm>
            <a:off x="838080" y="988920"/>
            <a:ext cx="7315200" cy="426888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685800" y="5257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Submit FAFSA at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Lucida Sans"/>
              </a:rPr>
              <a:t>www.fafsa.ed.go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Apply annuall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Lucida Sans"/>
              </a:rPr>
              <a:t>Full time and part time students can qualif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void being charged a fee to file th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pplication for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dera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udent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d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mpletion and processing of the FAFSA are FRE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filing the FAFSA electronically, be sure to go directly to www.fafsa.ed.gov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act the financial aid office for help completing the FAFSA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C:\Documents and Settings\jld1\Local Settings\Temporary Internet Files\Content.IE5\Y7W3MICJ\MCj04347500000[1].png"/>
          <p:cNvPicPr/>
          <p:nvPr/>
        </p:nvPicPr>
        <p:blipFill>
          <a:blip r:embed="rId3"/>
          <a:stretch/>
        </p:blipFill>
        <p:spPr>
          <a:xfrm>
            <a:off x="7467480" y="53341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8:55:31Z</dcterms:created>
  <dc:creator>Property</dc:creator>
  <dc:description/>
  <dc:language>en-US</dc:language>
  <cp:lastModifiedBy>rover</cp:lastModifiedBy>
  <dcterms:modified xsi:type="dcterms:W3CDTF">2012-01-12T01:39:40Z</dcterms:modified>
  <cp:revision>42</cp:revision>
  <dc:subject/>
  <dc:title>Slide 1</dc:title>
</cp:coreProperties>
</file>